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6191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8365-F0C4-4E39-9D95-3D92BEC9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685800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8760"/>
            <a:ext cx="685800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140-4FC5-48DD-B38A-7F3C58A6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15A-DB7D-4B20-904E-42E9749C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468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468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876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876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8760"/>
            <a:ext cx="220788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E625-431C-4008-823B-907AF3F7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4680"/>
            <a:ext cx="6858000" cy="40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421-3D9C-4AA6-95CD-18633ADF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68580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382E-72FA-4D62-A3E3-DA5C33F9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D2E-B43F-4BC2-8356-C8030AF9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D41C-7469-4EC7-9CFB-4FD76C61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B9F-FC4D-49C8-BABE-30DD15D5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35B-7236-4E57-AC1D-F1E6BD97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876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B92-066E-4E1D-B8E3-51D98DF4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4680"/>
            <a:ext cx="334656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8760"/>
            <a:ext cx="6858000" cy="194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0483-196D-4C5B-923D-3678F072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4680"/>
            <a:ext cx="68580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3832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3832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3832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C479-7018-4D1A-A261-8CE475340F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0040" y="2936880"/>
            <a:ext cx="44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barc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17680" y="320760"/>
            <a:ext cx="5349240" cy="2399760"/>
            <a:chOff x="517680" y="320760"/>
            <a:chExt cx="5349240" cy="239976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517680" y="320760"/>
              <a:ext cx="75240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036960" y="1131480"/>
              <a:ext cx="73296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41440" y="1137960"/>
              <a:ext cx="75024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530280" y="1987200"/>
              <a:ext cx="70740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054240" y="360000"/>
              <a:ext cx="70920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3073320" y="1928520"/>
              <a:ext cx="725040" cy="75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320840" y="428400"/>
              <a:ext cx="149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US" sz="1400" spc="-1" strike="noStrike">
                  <a:solidFill>
                    <a:srgbClr val="ff0000"/>
                  </a:solidFill>
                  <a:latin typeface="Comic Sans MS"/>
                </a:rPr>
                <a:t>ve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63600" y="112356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800080"/>
                  </a:solidFill>
                  <a:latin typeface="Comic Sans MS"/>
                </a:rPr>
                <a:t>conn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30680" y="533160"/>
              <a:ext cx="203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an </a:t>
              </a:r>
              <a:r>
                <a:rPr b="0" lang="en-US" sz="1400" spc="-1" strike="noStrike">
                  <a:solidFill>
                    <a:srgbClr val="0000ff"/>
                  </a:solidFill>
                  <a:latin typeface="Comic Sans MS"/>
                </a:rPr>
                <a:t>adj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2680" y="2171520"/>
              <a:ext cx="151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US" sz="1400" spc="-1" strike="noStrike">
                  <a:solidFill>
                    <a:srgbClr val="009300"/>
                  </a:solidFill>
                  <a:latin typeface="Comic Sans MS"/>
                </a:rPr>
                <a:t>no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740040" y="1304640"/>
              <a:ext cx="199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hange the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59120" y="1990440"/>
              <a:ext cx="2107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make the sentence negati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794040" y="1387440"/>
            <a:ext cx="1744920" cy="316080"/>
          </a:xfrm>
          <a:custGeom>
            <a:avLst/>
            <a:gdLst/>
            <a:ahLst/>
            <a:rect l="l" t="t" r="r" b="b"/>
            <a:pathLst>
              <a:path w="1099" h="199">
                <a:moveTo>
                  <a:pt x="0" y="0"/>
                </a:moveTo>
                <a:lnTo>
                  <a:pt x="1098" y="0"/>
                </a:lnTo>
                <a:lnTo>
                  <a:pt x="1098" y="198"/>
                </a:lnTo>
                <a:lnTo>
                  <a:pt x="0" y="19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92520" y="1266840"/>
            <a:ext cx="2527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mic Sans MS"/>
              </a:rPr>
              <a:t>Throw again! Tira otra vez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62240" y="1440000"/>
            <a:ext cx="1352520" cy="217440"/>
          </a:xfrm>
          <a:custGeom>
            <a:avLst/>
            <a:gdLst/>
            <a:ahLst/>
            <a:rect l="l" t="t" r="r" b="b"/>
            <a:pathLst>
              <a:path w="852" h="137">
                <a:moveTo>
                  <a:pt x="0" y="0"/>
                </a:moveTo>
                <a:lnTo>
                  <a:pt x="851" y="0"/>
                </a:lnTo>
                <a:lnTo>
                  <a:pt x="851" y="136"/>
                </a:lnTo>
                <a:lnTo>
                  <a:pt x="0" y="13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35240" y="1143000"/>
            <a:ext cx="907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mic Sans MS"/>
              </a:rPr>
              <a:t>subje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428760" y="190440"/>
            <a:ext cx="5349600" cy="2400480"/>
            <a:chOff x="428760" y="190440"/>
            <a:chExt cx="5349600" cy="240048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28760" y="190440"/>
              <a:ext cx="75240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948040" y="1001880"/>
              <a:ext cx="733320" cy="77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452520" y="1008000"/>
              <a:ext cx="75096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441360" y="1857240"/>
              <a:ext cx="708120" cy="73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2965320" y="230040"/>
              <a:ext cx="70992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2984400" y="1798560"/>
              <a:ext cx="72576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31920" y="2984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ff0000"/>
                  </a:solidFill>
                  <a:latin typeface="Comic Sans MS"/>
                </a:rPr>
                <a:t>ver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74680" y="993600"/>
              <a:ext cx="1251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GB" sz="1400" spc="-1" strike="noStrike">
                  <a:solidFill>
                    <a:srgbClr val="800080"/>
                  </a:solidFill>
                  <a:latin typeface="Comic Sans MS"/>
                </a:rPr>
                <a:t>conn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41760" y="403200"/>
              <a:ext cx="203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n </a:t>
              </a:r>
              <a:r>
                <a:rPr b="0" lang="en-GB" sz="1400" spc="-1" strike="noStrike">
                  <a:solidFill>
                    <a:srgbClr val="0000ff"/>
                  </a:solidFill>
                  <a:latin typeface="Comic Sans MS"/>
                </a:rPr>
                <a:t>adjec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93760" y="2041560"/>
              <a:ext cx="151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a </a:t>
              </a:r>
              <a:r>
                <a:rPr b="0" lang="en-GB" sz="1400" spc="-1" strike="noStrike">
                  <a:solidFill>
                    <a:srgbClr val="009300"/>
                  </a:solidFill>
                  <a:latin typeface="Comic Sans MS"/>
                </a:rPr>
                <a:t>no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51120" y="1174680"/>
              <a:ext cx="1994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change the subje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70200" y="1860480"/>
              <a:ext cx="210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mic Sans MS"/>
                </a:rPr>
                <a:t>make the sentence negativ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0760" y="2698920"/>
            <a:ext cx="7537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a mujer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mira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 perro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enorme 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baila con </a:t>
            </a:r>
            <a:r>
              <a:rPr b="0" lang="en-GB" sz="2000" spc="-1" strike="noStrike">
                <a:solidFill>
                  <a:srgbClr val="00ff00"/>
                </a:solidFill>
                <a:latin typeface="Comic Sans MS"/>
              </a:rPr>
              <a:t>una mesa </a:t>
            </a:r>
            <a:r>
              <a:rPr b="0" lang="en-GB" sz="2000" spc="-1" strike="noStrike">
                <a:solidFill>
                  <a:srgbClr val="0000ff"/>
                </a:solidFill>
                <a:latin typeface="Comic Sans MS"/>
              </a:rPr>
              <a:t>alta</a:t>
            </a:r>
            <a:r>
              <a:rPr b="0" lang="en-GB" sz="21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en-GB" sz="2000" spc="-1" strike="noStrike">
                <a:solidFill>
                  <a:srgbClr val="80008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190440"/>
            <a:ext cx="947520" cy="1049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02160" y="1228680"/>
            <a:ext cx="922320" cy="998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57200" y="1236600"/>
            <a:ext cx="946080" cy="97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46040" y="2325600"/>
            <a:ext cx="890640" cy="939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622680" y="239760"/>
            <a:ext cx="895320" cy="973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648240" y="2251080"/>
            <a:ext cx="912600" cy="96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60520" y="34596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a </a:t>
            </a:r>
            <a:r>
              <a:rPr b="0" lang="en-GB" sz="1800" spc="-1" strike="noStrike">
                <a:solidFill>
                  <a:srgbClr val="32cd32"/>
                </a:solidFill>
                <a:latin typeface="Comic Sans MS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84200" y="124128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n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89560" y="479520"/>
            <a:ext cx="25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an 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03280" y="2584440"/>
            <a:ext cx="18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a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8920" y="1460520"/>
            <a:ext cx="24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ge the su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46440" y="231768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ake the sentence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2400" y="114480"/>
            <a:ext cx="6147000" cy="37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160" y="358920"/>
            <a:ext cx="70149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06:52:34Z</dcterms:created>
  <dc:creator>Katy Oliver</dc:creator>
  <dc:description/>
  <dc:language>en-US</dc:language>
  <cp:lastModifiedBy>Katy Oliver</cp:lastModifiedBy>
  <dcterms:modified xsi:type="dcterms:W3CDTF">2012-03-02T16:05:10Z</dcterms:modified>
  <cp:revision>2</cp:revision>
  <dc:subject/>
  <dc:title>Slide 1</dc:title>
</cp:coreProperties>
</file>